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3CB6-6D8F-4189-ACED-E37E7ECB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FACC-6BD9-41D2-801A-94388CDB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E15C-097F-4D68-962A-BA48B6A9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FCFF-D0A1-407F-BC19-7DA23B9E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E01B-E58F-481A-9813-C37457DF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2378-E3C7-4CB0-B79B-E920250D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B5FE-4E3A-4CE2-B582-40E03680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7E4B-3243-4E1F-AB99-89E25E3C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BCC5-9A4E-4345-8887-E4EDFC91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1670-AB49-4530-BFAE-2BA9FD98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9030-0FE5-4152-8CF5-0796979C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726B-0CBF-464D-8C9E-8388FB03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A36A-BCD3-4362-91B1-97F9427A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A9FD-624B-4CBF-8414-29D4B683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72F7-04CF-4B74-A747-18A7B78E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905D-4CAB-4378-B015-ECE9A1D1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5A7E-7E75-45F8-8F1F-71CD7F8D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16BC-5592-4891-9076-23DBF55B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D462-CBFC-4808-AEDC-CFD58A2C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652C-26C2-466C-B502-7C4987D2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1000-ABF5-4733-8F90-1439B3BC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72FF-8AC8-4174-910C-25637DE4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37DF-BD86-4B12-B733-24A48E0A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9E60-9093-4577-946A-11DE2C28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3100-24EC-4D10-98A0-17EB34926B3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DE25-4FA3-4B6E-992E-E1D94BF8BD6B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947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dbbd71"/>
                </a:solidFill>
                <a:latin typeface="Arial"/>
              </a:rPr>
              <a:t>OPERATIVNI ZAHVATI U GINEKOLOGIJI I AKUŠERSTVU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dbbd71"/>
                </a:solidFill>
                <a:latin typeface="Arial"/>
              </a:rPr>
              <a:t>POSLEOPERATIVNI OPORAVAK I NEGA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UŠEN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KONTROLNI PREGLEDI (VIZI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LABORATORIJSKE ANALI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EVIJAN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KIDANJE ŠAVOVA  I KOPČ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DAVANJE LEKOV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LIČNA HIGIJEN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OSETE BOLESNICA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dbbd71"/>
                </a:solidFill>
                <a:latin typeface="Arial"/>
              </a:rPr>
              <a:t>POSTOPERATIVNE KOMPLIKACIJ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ZASTOJ SRCA – CARDIAC AR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eanima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OVRAĆANJ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a) zbog anestezi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b) zbog gastriti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c) neuropatsk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d) zbog peritoniti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e) zbog opstrukcije cre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FUNKCIONALNA OBSTRUKCIJA CRE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OSTOPERATIVNI PROL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dbbd71"/>
                </a:solidFill>
                <a:latin typeface="Arial"/>
              </a:rPr>
              <a:t>POSTOPERATIVNE KOMPLIKACIJ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AKUTNA DILATACIJA ŽELU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ŠTUCAN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HEMATOM, SEROM, SUPURACIJA R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CREVNE FISTU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GENITO-URINARNE FISTU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ERITON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ELVEOPERITON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OSTOPERATIVNE HERNIJE U OŽILJK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DEHISCENCIJA OPERATIVNE R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TROMBOEMBOLIČNA BOLES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LUĆNA EMBOLIJA SA ILI BEZ EXITU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dbbd71"/>
                </a:solidFill>
                <a:latin typeface="Arial"/>
              </a:rPr>
              <a:t>OPERATIVNO AKUŠERSTVO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AKUŠERSKE OPERACIJE su sve one intervencije koje se vrše na porodilji ili plodu radi izbegavanja ili uklanjanja opasnosti po zdravlje ili život majke i dete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IPRE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ANESTEZ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NDIKACI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dbbd71"/>
                </a:solidFill>
                <a:latin typeface="Arial"/>
              </a:rPr>
              <a:t>AKUŠERSKE OPERACIJE :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EPIZIOTOM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UPTURA MEĐICE, LABIJA, VAGINE I CERVIK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AMNIOTOM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STISKIVANJE POSTELJICE  (Po  Crede-u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ODLUBLJIVANJE I VAĐENJE POSTELJ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EVIZIJA MATERIČNE DUPL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TAMPONADA I KOMPRESIJA MATER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OMENE POLOŽAJA PLODA (SPOLJAŠNJI, KOMBINOVANI I UNUTRAŠNJI OKR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UČNA EKSTRAKCIJA PLODA KOD KARLIČNE PREZ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EKSTRAKCIJA PLODA KLEŠTI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EKSTRAKCIJA PLODA VAKUUM EKSTRAKTOR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CARSKI RE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EMBRIOTOMI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dbbd71"/>
                </a:solidFill>
                <a:latin typeface="Arial"/>
              </a:rPr>
              <a:t>EPIZIOTOMIJA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ZASECANJE MEĐICE U CILJU ZAŠTITE DNA KARLICE I PROŠIRIVANJA IZLAZNOG DELA POROĐAJNOG PU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(JASCHKE 1928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ndikacij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Defleksioni stavovi gla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Brz završetak porođaja nekom od akušerskih opera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Disproporicije ploda i karl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epodesna građa međice (rigidna, niska, visoka, ožiljkasta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edonešeni pl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dbbd71"/>
                </a:solidFill>
                <a:latin typeface="Arial"/>
              </a:rPr>
              <a:t>TEHNIKA IZVOĐENJA EPIZIOTOMIJE</a:t>
            </a:r>
            <a:br>
              <a:rPr sz="2400"/>
            </a:br>
            <a:r>
              <a:rPr b="0" lang="sr-Latn-CS" sz="2400" spc="-1" strike="noStrike">
                <a:solidFill>
                  <a:srgbClr val="dbbd71"/>
                </a:solidFill>
                <a:latin typeface="Arial"/>
              </a:rPr>
              <a:t>(VRSTE)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LATERAL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EDIJAL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EDIOLATERAL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JEDNOSTRA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OBOSTRA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dbbd71"/>
                </a:solidFill>
                <a:latin typeface="Arial"/>
              </a:rPr>
              <a:t>RUPTURA MEĐIC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RUPTURA I STEP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RUPTURA II STEP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RUPTURA III STEPENA (KOMPLET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459640" cy="574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dbbd71"/>
                </a:solidFill>
                <a:latin typeface="Arial"/>
              </a:rPr>
              <a:t>RUPTURA VAGINE, KLITORISA I LABIJA</a:t>
            </a:r>
            <a:br>
              <a:rPr sz="3200"/>
            </a:br>
            <a:br>
              <a:rPr sz="3200"/>
            </a:br>
            <a:r>
              <a:rPr b="0" lang="sr-Latn-CS" sz="3200" spc="-1" strike="noStrike">
                <a:solidFill>
                  <a:srgbClr val="dbbd71"/>
                </a:solidFill>
                <a:latin typeface="Arial"/>
              </a:rPr>
              <a:t>PROKIDANJE VODENJAKA (AMNIOTOMIJA)</a:t>
            </a:r>
            <a:br>
              <a:rPr sz="3200"/>
            </a:br>
            <a:br>
              <a:rPr sz="3200"/>
            </a:br>
            <a:r>
              <a:rPr b="0" lang="sr-Latn-CS" sz="3200" spc="-1" strike="noStrike">
                <a:solidFill>
                  <a:srgbClr val="dbbd71"/>
                </a:solidFill>
                <a:latin typeface="Arial"/>
              </a:rPr>
              <a:t>NALEGANJE ILI ISPADANJE SITNIH DELOVA PLODA</a:t>
            </a:r>
            <a:br>
              <a:rPr sz="3200"/>
            </a:br>
            <a:br>
              <a:rPr sz="3200"/>
            </a:br>
            <a:r>
              <a:rPr b="0" lang="sr-Latn-CS" sz="3200" spc="-1" strike="noStrike">
                <a:solidFill>
                  <a:srgbClr val="dbbd71"/>
                </a:solidFill>
                <a:latin typeface="Arial"/>
              </a:rPr>
              <a:t>ISTISKIVANJE POSTELJICE ( po CREDE-u)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dbbd71"/>
                </a:solidFill>
                <a:latin typeface="Arial"/>
              </a:rPr>
              <a:t>ODLUBLJIVANJE I VAĐENJE POSTELJICE</a:t>
            </a:r>
            <a:br>
              <a:rPr sz="3200"/>
            </a:br>
            <a:r>
              <a:rPr b="0" lang="sr-Latn-CS" sz="3200" spc="-1" strike="noStrike">
                <a:solidFill>
                  <a:srgbClr val="dbbd71"/>
                </a:solidFill>
                <a:latin typeface="Arial"/>
              </a:rPr>
              <a:t>(Lysis et extractio placentae manualis)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2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NDIKACIJ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Kod krvavljenja kada je posteljica u materic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Kada posteljica nije spontano izašla ni posle dva sata od rađanja plo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Kada je porođaj završen nekom od akušerskih opera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dbbd71"/>
                </a:solidFill>
                <a:latin typeface="Arial"/>
              </a:rPr>
              <a:t>PODELE: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EMA OPERATIVNOM PRISTUP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ABDOMINAL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AGINAL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ABDOMINALNO-VAGINAL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ENDOSKOPSK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EMA OBIMU IZVOĐE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ANJ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EĆ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ADIKAL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EMA STEPENU ZAHV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OTPU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DELIMIČ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ALIJATIV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EKSPLORATIV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dbbd71"/>
                </a:solidFill>
                <a:latin typeface="Arial"/>
              </a:rPr>
              <a:t>REVIZIJA MATERIČNE DUPLJ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ndikacij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Atonično krvavljenje posle porođa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Zaostali delovi posteljičnog tki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Krvavljenje iz materice po rađanju ploda i poslet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adi utvrđivanja stanja materične duplje kod porođaja završenog nekom akušerkom operacij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adi utvrđivanja stanja materične duplje kod porođaja završenog posle nekog operativnog zahvata na uterus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adi utvrđivanja eventualnih anomalija materične šupljine i zido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TAMPONADA I KOMPRESIJA MATER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dbbd71"/>
                </a:solidFill>
                <a:latin typeface="Arial"/>
              </a:rPr>
              <a:t>SPOLJAŠNJI OKRET (Versio externa)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NDIKACIJ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oprečni položaj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Kosi položaj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v zatk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USLOV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ntaktni ovojci i dovoljna količina plodove vo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eosetljivost trbuha i mater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Dovoljna prolaznost mekanog i koštanog dela porođajnog kana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epostojanje anomalija uterusa kao ni promena u njegovom zid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dbbd71"/>
                </a:solidFill>
                <a:latin typeface="Arial"/>
              </a:rPr>
              <a:t>KOMBINOVANI OKRET (Braxton-Hicks)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NDIKACIJ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Krvavljenje u trudnoći i porođaju zbog placente previje (u vanbolničkim uslovim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oprečni položaj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Kosi položaj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alegla ili ispala pupčana vrp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USLOVI su isti kao za spoljašnji okr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dbbd71"/>
                </a:solidFill>
                <a:latin typeface="Arial"/>
              </a:rPr>
              <a:t>UNUTRAŠNJI OKRET (Versio interna)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NDIKACIJ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oprečni položaj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Kosi položaj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alegla ili ispala pupčana vrp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va stanja porodilje koja zahtevaju da se porođaj ubrz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eteća intrauterina asfiksija plo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epovoljni stavovi gla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dbbd71"/>
                </a:solidFill>
                <a:latin typeface="Arial"/>
              </a:rPr>
              <a:t>UNUTRAŠNJI OKRET (Versio interna)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USLOV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otpuna dilatacija grlića mater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Očuvana pokretljivost plo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Dovoljna prolaznost mekanog dela porođajnog kana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epostojanje disproporcije glave i koštanog dela porođajnog kana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epostojanje znakova preteće rupture uteru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epostojanje drugih promena na zidu uterusa koje bi mogle da budu uzrok rupturi u toku izvođenja okreta (ožiljci od predhodnih operacija)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dbbd71"/>
                </a:solidFill>
                <a:latin typeface="Arial"/>
              </a:rPr>
              <a:t>RUČNA EKSTRAKCIJA PLODA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BRA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COVJANO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MAURICAEU-SMELLIE-VE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OBRNUTI PRAŠKI HV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dbbd71"/>
                </a:solidFill>
                <a:latin typeface="Arial"/>
              </a:rPr>
              <a:t>EKSTRAKCIJA PLODA KLEŠTIMA (FORCEPS)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XVII vek  PITER CHAMBERL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250 vrsta forcep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NAEGELOVA,  KJELLANDOVA,  SIMPSONOVA,  PIPEROVA,  BARTHONOV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DEMELINOVA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DEFINICIJA: 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Forceps je akušerska operacija kojom se uz pomoć klešta (forcepsa) vrši ekstrakcija glavice ploda i na taj način dovršava prirodno započeti porođaj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Swiss Black YU"/>
              </a:rPr>
              <a:t>Dopuna već započetog operativnog načina završetka porođaja kao što je Carski rez ili karlični porođaj</a:t>
            </a:r>
            <a:r>
              <a:rPr b="0" lang="en-US" sz="2000" spc="-1" strike="noStrike">
                <a:solidFill>
                  <a:srgbClr val="ffff00"/>
                </a:solidFill>
                <a:latin typeface="Swiss Black YU"/>
              </a:rPr>
              <a:t>.</a:t>
            </a:r>
            <a:r>
              <a:rPr b="0" lang="sr-Latn-CS" sz="2000" spc="-1" strike="noStrike">
                <a:solidFill>
                  <a:srgbClr val="ffff00"/>
                </a:solidFill>
                <a:latin typeface="Swiss Black YU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Swiss Black YU"/>
              </a:rPr>
              <a:t>Zaštitna metoda pri prevremenim porođajima i kod nedonešenih plodova</a:t>
            </a:r>
            <a:r>
              <a:rPr b="0" lang="en-US" sz="2000" spc="-1" strike="noStrike">
                <a:solidFill>
                  <a:srgbClr val="ffff00"/>
                </a:solidFill>
                <a:latin typeface="Swiss Black YU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33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00"/>
                </a:solidFill>
                <a:latin typeface="Swiss Black YU"/>
              </a:rPr>
              <a:t>PODELA FORCEPSA PREMA KONSTRUKCIJI KLEŠTA</a:t>
            </a:r>
            <a:endParaRPr b="0" lang="en-US" sz="2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1619280" y="2492280"/>
            <a:ext cx="6408720" cy="72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KLEŠTA SA UKRŠTENIM KAŠIKAMA</a:t>
            </a: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 </a:t>
            </a:r>
            <a:r>
              <a:rPr b="0" lang="sr-Latn-CS" sz="2200" spc="-1" strike="noStrike">
                <a:solidFill>
                  <a:srgbClr val="f8a500"/>
                </a:solidFill>
                <a:latin typeface="Swiss Black YU"/>
              </a:rPr>
              <a:t>NAEGELOV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1692360" y="3933720"/>
            <a:ext cx="6408720" cy="72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KLEŠTA SA PARALELNIM KAŠIKAMA</a:t>
            </a: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 </a:t>
            </a:r>
            <a:r>
              <a:rPr b="0" lang="sr-Latn-CS" sz="2200" spc="-1" strike="noStrike">
                <a:solidFill>
                  <a:srgbClr val="f8a500"/>
                </a:solidFill>
                <a:latin typeface="Swiss Black YU"/>
              </a:rPr>
              <a:t>DEMELINOV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Forceps naegele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9865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3132000" y="5516640"/>
            <a:ext cx="4032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Swiss Black YU"/>
              </a:rPr>
              <a:t>Naegele-ov force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IZGLED I OSNOVNI DELOVI NAJČEŠĆE KORIŠĆENIH KLEŠTA KOD N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33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00"/>
                </a:solidFill>
                <a:latin typeface="Swiss Black YU"/>
              </a:rPr>
              <a:t>Klasifikacija forcepsa u odnosu na mesto glavice ploda u porođajnom kanalu</a:t>
            </a:r>
            <a:endParaRPr b="0" lang="en-US" sz="2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3092760" y="2707200"/>
            <a:ext cx="33123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Niski ili izlazni forcep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3651480" y="3859920"/>
            <a:ext cx="241920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 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Srednji forcep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3726000" y="5299560"/>
            <a:ext cx="226980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 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Visoki forcep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dbbd71"/>
                </a:solidFill>
                <a:latin typeface="Arial"/>
              </a:rPr>
              <a:t>NAJČEŠĆI SPECIFIČNI OPERATIVNI ZAHVATI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66"/>
                </a:solidFill>
                <a:latin typeface="Tahoma"/>
              </a:rPr>
              <a:t>VULVA –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Ekstirpacija benignih prom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ulvektom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66"/>
                </a:solidFill>
                <a:latin typeface="Tahoma"/>
              </a:rPr>
              <a:t>GLANDULA BARTHOLINI –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ncis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Extirpat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arsupialisat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66"/>
                </a:solidFill>
                <a:latin typeface="Tahoma"/>
              </a:rPr>
              <a:t>BENIGNI TUMORI UTERUSA –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iomektom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Histerektom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66"/>
                </a:solidFill>
                <a:latin typeface="Tahoma"/>
              </a:rPr>
              <a:t>MALIGNI TUMORI UTERUSA –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Conisat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Klasična histerektom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adikalna histerektom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33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00"/>
                </a:solidFill>
                <a:latin typeface="Swiss Black YU"/>
              </a:rPr>
              <a:t>Klasifikacija forcepsa u odnosu na porođajni put i rotaciju glavice ploda</a:t>
            </a:r>
            <a:endParaRPr b="0" lang="en-US" sz="2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179280" y="2348280"/>
            <a:ext cx="89647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  </a:t>
            </a:r>
            <a:r>
              <a:rPr b="0" lang="sr-Latn-CS" sz="2200" spc="-1" strike="noStrike">
                <a:solidFill>
                  <a:srgbClr val="f8a500"/>
                </a:solidFill>
                <a:latin typeface="Swiss Black YU"/>
              </a:rPr>
              <a:t>Tipični forceps,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 kada se kašike forcepsa postavljaju na biparijetalni prečnik glavice ploda, koja je na izlazu sa sagitalnom suturom u pravom prečniku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24000" y="4314960"/>
            <a:ext cx="8640720" cy="176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 </a:t>
            </a:r>
            <a:r>
              <a:rPr b="0" lang="sr-Latn-CS" sz="2200" spc="-1" strike="noStrike">
                <a:solidFill>
                  <a:srgbClr val="f8a500"/>
                </a:solidFill>
                <a:latin typeface="Swiss Black YU"/>
              </a:rPr>
              <a:t>Atipični forceps,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 kada ne postoji potpuna rotacija glavice i kašike se ne mogu postaviti u poprečni prečnik porođajnog kanala već u neki od kosih prečnika i tada dolazi do šetanja kašika pre definitivne ekstrakcije glavic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909"/>
              <a:buBlip>
                <a:blip r:embed="rId4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33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00"/>
                </a:solidFill>
                <a:latin typeface="Swiss Black YU"/>
              </a:rPr>
              <a:t>Posebne primene forcepsa</a:t>
            </a:r>
            <a:endParaRPr b="0" lang="en-US" sz="2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673200" y="2491200"/>
            <a:ext cx="61070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K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od karličnog porođaja na glavici koja sledi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3122640" y="3788280"/>
            <a:ext cx="27496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K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od Carskog rez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971640" y="5012280"/>
            <a:ext cx="741672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K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od nezrelih plodova</a:t>
            </a: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 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kao zaštitni forcep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342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33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00"/>
                </a:solidFill>
                <a:latin typeface="Swiss Black YU"/>
              </a:rPr>
              <a:t>USLOVI ZA IZVOĐENJE INTERVENCIJE</a:t>
            </a:r>
            <a:endParaRPr b="0" lang="en-US" sz="2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1384200" y="1411920"/>
            <a:ext cx="56757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 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Glavica mora da bude fiksirana u karlici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461520" y="2059560"/>
            <a:ext cx="643680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Materično ušće mora biti potpuno dilatiran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1162080" y="2707200"/>
            <a:ext cx="520992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Plodovi ovojci moraju biti prokinuti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324000" y="3665880"/>
            <a:ext cx="82818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buSzPct val="102909"/>
              <a:buBlip>
                <a:blip r:embed="rId4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Ne sme da postoji veća nesrazmera između veličine glavice ploda i koštanog dela porođajnog kanal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615240" y="4651920"/>
            <a:ext cx="35625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5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Plod mora da bude živ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468360" y="5443920"/>
            <a:ext cx="867564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buSzPct val="102909"/>
              <a:buBlip>
                <a:blip r:embed="rId6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Neophodno je prisustvo akušerske ekipe sa bar jednim iskusnim akušerom, kao i prisustvo neonatologa i po mogućnosti anesteziolog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5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9" nodeType="afterEffect" fill="hold" presetClass="entr" presetID="4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00"/>
                </a:solidFill>
                <a:latin typeface="Swiss Black YU"/>
              </a:rPr>
              <a:t>Indikacije za primenu forcepsa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2343600" y="2491200"/>
            <a:ext cx="415512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 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Indikacije od strane majk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320200" y="3427920"/>
            <a:ext cx="41018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 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Indikacije od strane plod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1042920" y="4940640"/>
            <a:ext cx="7416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 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Indikacije od strane majke i ploda su vrlo često komplementarne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1187280" y="4508640"/>
            <a:ext cx="7272360" cy="7272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342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33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Swiss Black YU"/>
              </a:rPr>
              <a:t>INDIKACIJE OD STRANE MAJKE</a:t>
            </a:r>
            <a:endParaRPr b="0" lang="en-US" sz="2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564840" y="1411920"/>
            <a:ext cx="436212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P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roduženo trajanje porođaja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1258920" y="2059560"/>
            <a:ext cx="58467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S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ekundarno slabe kontrakcije (dystocio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684360" y="3011760"/>
            <a:ext cx="8281800" cy="106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M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noga oboljenja i stanja porodilje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Latn-CS" sz="2000" spc="-1" strike="noStrike">
                <a:solidFill>
                  <a:srgbClr val="f8a500"/>
                </a:solidFill>
                <a:latin typeface="Swiss Black YU"/>
              </a:rPr>
              <a:t>kardiovaskularne, cerebrovaskularne, neuromuskularne, respiratorne i urinarne bolesti, stanja opšte </a:t>
            </a:r>
            <a:r>
              <a:rPr b="0" lang="en-US" sz="2000" spc="-1" strike="noStrike">
                <a:solidFill>
                  <a:srgbClr val="f8a500"/>
                </a:solidFill>
                <a:latin typeface="Swiss Black YU"/>
              </a:rPr>
              <a:t>i</a:t>
            </a:r>
            <a:r>
              <a:rPr b="0" lang="sr-Latn-CS" sz="2000" spc="-1" strike="noStrike">
                <a:solidFill>
                  <a:srgbClr val="f8a500"/>
                </a:solidFill>
                <a:latin typeface="Swiss Black YU"/>
              </a:rPr>
              <a:t>scrpljenosti, teške hipovolemijske anemij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1075320" y="4507560"/>
            <a:ext cx="386100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4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I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ntrapartalna krvavljenj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755640" y="5228280"/>
            <a:ext cx="48243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5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V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išegodišnji infertilitet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826920" y="5949000"/>
            <a:ext cx="446580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6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E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klamptični statu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7000"/>
                            </p:stCondLst>
                            <p:childTnLst>
                              <p:par>
                                <p:cTn id="166" nodeType="afterEffect" fill="hold" presetClass="entr" presetID="16" presetSubtype="37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0" nodeType="afterEffect" fill="hold" presetClass="entr" presetID="16" presetSubtype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4" nodeType="afterEffect" fill="hold" presetClass="entr" presetID="16" presetSubtype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342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33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Swiss Black YU"/>
              </a:rPr>
              <a:t>INDIKACIJE OD STRANE PLODA</a:t>
            </a:r>
            <a:endParaRPr b="0" lang="en-US" sz="2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646920" y="1411920"/>
            <a:ext cx="51152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P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reteća ili početna fetalna asfiksija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684360" y="2275560"/>
            <a:ext cx="84596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N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epravilne ili nepotpune rotacije fetalne glavice nad karličnim ulazom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755640" y="3211920"/>
            <a:ext cx="540072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P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lacentarna insuficijencija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566640" y="4075560"/>
            <a:ext cx="655380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4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K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ompromitovana cirkulacija u pupčanoj vrpci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755640" y="4941000"/>
            <a:ext cx="48243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5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A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brupcija placen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755640" y="5875920"/>
            <a:ext cx="446580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6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P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reterminski plo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9500"/>
                            </p:stCondLst>
                            <p:childTnLst>
                              <p:par>
                                <p:cTn id="203" nodeType="after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00"/>
                </a:solidFill>
                <a:latin typeface="Swiss Black YU"/>
              </a:rPr>
              <a:t>KONTRAINDIKACIJ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2050920" y="2637000"/>
            <a:ext cx="5257800" cy="51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wiss Black YU"/>
              </a:rPr>
              <a:t>A</a:t>
            </a:r>
            <a:r>
              <a:rPr b="0" lang="sr-Latn-CS" sz="2400" spc="-1" strike="noStrike">
                <a:solidFill>
                  <a:srgbClr val="ffff00"/>
                </a:solidFill>
                <a:latin typeface="Swiss Black YU"/>
              </a:rPr>
              <a:t>psolutne kontraindikacij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Swiss Black YU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1476360" y="4149720"/>
            <a:ext cx="619272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wiss Black YU"/>
              </a:rPr>
              <a:t>R</a:t>
            </a:r>
            <a:r>
              <a:rPr b="0" lang="sr-Latn-CS" sz="2400" spc="-1" strike="noStrike">
                <a:solidFill>
                  <a:srgbClr val="ffff00"/>
                </a:solidFill>
                <a:latin typeface="Swiss Black YU"/>
              </a:rPr>
              <a:t>elativne kontraindikacij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wiss Black YU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wiss Black YU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Swiss Black YU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826920" y="0"/>
            <a:ext cx="7342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Swiss Black YU"/>
              </a:rPr>
              <a:t>APSOLUTNE KONTRAINDIKACIJ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825840" y="1195920"/>
            <a:ext cx="55497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U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padljiva  fetopelvična disproporcija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-612720" y="1772280"/>
            <a:ext cx="882180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1371600" indent="-457200" algn="ctr"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905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N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ekompletna dilatacija grlića materice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971640" y="2275560"/>
            <a:ext cx="540072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K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osi i poprečni položaj ploda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893880" y="2851560"/>
            <a:ext cx="311292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4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P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rednjačeći tumori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971640" y="3427920"/>
            <a:ext cx="648000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5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A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sinklitička držanja fetalne glavic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971640" y="4075560"/>
            <a:ext cx="71294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6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M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rtav plod ili nakaznost plod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611280" y="4651920"/>
            <a:ext cx="7416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buSzPct val="102909"/>
              <a:buBlip>
                <a:blip r:embed="rId7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P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reteća ruptura uterusa ili postojanje predhodnih operacija na uterusu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1587960" y="5515560"/>
            <a:ext cx="54108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buSzPct val="102909"/>
              <a:buBlip>
                <a:blip r:embed="rId8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N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eiskusan akušer,</a:t>
            </a: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 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bez prateće ekip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 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za reanimaciju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500"/>
                            </p:stCondLst>
                            <p:childTnLst>
                              <p:par>
                                <p:cTn id="242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7000"/>
                            </p:stCondLst>
                            <p:childTnLst>
                              <p:par>
                                <p:cTn id="246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9500"/>
                            </p:stCondLst>
                            <p:childTnLst>
                              <p:par>
                                <p:cTn id="250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4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8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2" nodeType="afterEffect" fill="hold" presetClass="entr" presetID="16" presetSubtype="2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47880" y="1627560"/>
            <a:ext cx="75369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Nedonešeni plod, niže gestacijske starosti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	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od 36 nedelja i telesne mase od 2500 g i niže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24000" y="3090600"/>
            <a:ext cx="77403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N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edovoljno jasno definisane rotacione anomalije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-425160" y="3932640"/>
            <a:ext cx="82594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Nesigurno dokazane malpozicije prednjačeće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	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fetalne glavice (asynclitismus posterior, s. Litzman)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826920" y="5083560"/>
            <a:ext cx="7848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4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S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rednji stepen defleksije (čeoni stav)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	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i najveći stepen defleksije (lični stav)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1547640" y="404640"/>
            <a:ext cx="6337440" cy="48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00"/>
                </a:solidFill>
                <a:latin typeface="Swiss Black YU"/>
              </a:rPr>
              <a:t>RELATIVNE KONTRAINDIKACIJ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16" presetSubtype="37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8500"/>
                            </p:stCondLst>
                            <p:childTnLst>
                              <p:par>
                                <p:cTn id="285" nodeType="afterEffect" fill="hold" presetClass="entr" presetID="4" presetSubtype="1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468360" y="1987920"/>
            <a:ext cx="7740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U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nošenje kašika u porođajni kanal i njihovo nameštanje na glavicu ploda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755640" y="3067560"/>
            <a:ext cx="72723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Z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atvaranje kašika u njihovom zatvaraču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2627280" y="3788280"/>
            <a:ext cx="33130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P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robna trakcij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1116000" y="4580640"/>
            <a:ext cx="71294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4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P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rava trakcija i ekstrakcija plod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2195640" y="5372640"/>
            <a:ext cx="41050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buSzPct val="102909"/>
              <a:buBlip>
                <a:blip r:embed="rId5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S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kidanje klešt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1403280" y="692280"/>
            <a:ext cx="7128000" cy="48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00"/>
                </a:solidFill>
                <a:latin typeface="Swiss Black YU"/>
              </a:rPr>
              <a:t>NAČ</a:t>
            </a:r>
            <a:r>
              <a:rPr b="0" lang="en-US" sz="2600" spc="-1" strike="noStrike">
                <a:solidFill>
                  <a:srgbClr val="ffff00"/>
                </a:solidFill>
                <a:latin typeface="Swiss Black YU"/>
              </a:rPr>
              <a:t>IN IZVO</a:t>
            </a:r>
            <a:r>
              <a:rPr b="0" lang="sr-Latn-CS" sz="2600" spc="-1" strike="noStrike">
                <a:solidFill>
                  <a:srgbClr val="ffff00"/>
                </a:solidFill>
                <a:latin typeface="Swiss Black YU"/>
              </a:rPr>
              <a:t>Đ</a:t>
            </a:r>
            <a:r>
              <a:rPr b="0" lang="en-US" sz="2600" spc="-1" strike="noStrike">
                <a:solidFill>
                  <a:srgbClr val="ffff00"/>
                </a:solidFill>
                <a:latin typeface="Swiss Black YU"/>
              </a:rPr>
              <a:t>ENJA INTERVENCIJ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16" presetSubtype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7500"/>
                            </p:stCondLst>
                            <p:childTnLst>
                              <p:par>
                                <p:cTn id="308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2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dbbd71"/>
                </a:solidFill>
                <a:latin typeface="Arial"/>
              </a:rPr>
              <a:t>NAJČEŠĆI SPECIFIČNI OPERATIVNI ZAHVATI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66"/>
                </a:solidFill>
                <a:latin typeface="Tahoma"/>
              </a:rPr>
              <a:t>POREMEĆAJI STATIKE GENITALNIH ORGANA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HYSTERECTOMIA VAGIN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LASTICA VAGINAE ANT. ET POS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66"/>
                </a:solidFill>
                <a:latin typeface="Tahoma"/>
              </a:rPr>
              <a:t>PROMENE NA ADNEKSAMA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ADNEXECTOM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OVARIECTOM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ALPINGECTOM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66"/>
                </a:solidFill>
                <a:latin typeface="Tahoma"/>
              </a:rPr>
              <a:t>KOREKTIVNI I MIKROHIRURŠKI ZAHVATI KOD STERILITETA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539640" y="2275560"/>
            <a:ext cx="774072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P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rimena sile, pre svega u unošenju kašika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684360" y="3427920"/>
            <a:ext cx="72723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P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ogrešna procena o postojanju ili nepostojanju disproporcije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1042920" y="4796280"/>
            <a:ext cx="6516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Swiss Black YU"/>
              </a:rPr>
              <a:t>N</a:t>
            </a:r>
            <a:r>
              <a:rPr b="1" lang="sr-Latn-CS" sz="2200" spc="-1" strike="noStrike">
                <a:solidFill>
                  <a:srgbClr val="ffff00"/>
                </a:solidFill>
                <a:latin typeface="Swiss Black YU"/>
              </a:rPr>
              <a:t>epoštovanje uslova, indikacija i kontraindikacij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1403280" y="692280"/>
            <a:ext cx="7128000" cy="48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00"/>
                </a:solidFill>
                <a:latin typeface="Swiss Black YU"/>
              </a:rPr>
              <a:t>GR</a:t>
            </a:r>
            <a:r>
              <a:rPr b="0" lang="en-US" sz="2600" spc="-1" strike="noStrike">
                <a:solidFill>
                  <a:srgbClr val="ffff00"/>
                </a:solidFill>
                <a:latin typeface="Swiss Black YU"/>
              </a:rPr>
              <a:t>E</a:t>
            </a:r>
            <a:r>
              <a:rPr b="0" lang="sr-Latn-CS" sz="2600" spc="-1" strike="noStrike">
                <a:solidFill>
                  <a:srgbClr val="ffff00"/>
                </a:solidFill>
                <a:latin typeface="Swiss Black YU"/>
              </a:rPr>
              <a:t>ŠKE</a:t>
            </a:r>
            <a:r>
              <a:rPr b="0" lang="en-US" sz="2600" spc="-1" strike="noStrike">
                <a:solidFill>
                  <a:srgbClr val="ffff00"/>
                </a:solidFill>
                <a:latin typeface="Swiss Black YU"/>
              </a:rPr>
              <a:t> PRI PRIMENI FORCEPS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500"/>
                            </p:stCondLst>
                            <p:childTnLst>
                              <p:par>
                                <p:cTn id="327" nodeType="afterEffect" fill="hold" presetClass="entr" presetID="2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50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250920" y="1988280"/>
            <a:ext cx="774072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M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aternalne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826920" y="3211920"/>
            <a:ext cx="59770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F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etalne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826920" y="4435920"/>
            <a:ext cx="651672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Swiss Black YU"/>
              </a:rPr>
              <a:t>O</a:t>
            </a:r>
            <a:r>
              <a:rPr b="1" lang="sr-Latn-CS" sz="2200" spc="-1" strike="noStrike">
                <a:solidFill>
                  <a:srgbClr val="ffff00"/>
                </a:solidFill>
                <a:latin typeface="Swiss Black YU"/>
              </a:rPr>
              <a:t>bostran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1403280" y="692280"/>
            <a:ext cx="6481800" cy="48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00"/>
                </a:solidFill>
                <a:latin typeface="Swiss Black YU"/>
              </a:rPr>
              <a:t>KOMPLIKACIJE INTERVENCIJ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500"/>
                            </p:stCondLst>
                            <p:childTnLst>
                              <p:par>
                                <p:cTn id="352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dbbd71"/>
                </a:solidFill>
                <a:latin typeface="Arial"/>
              </a:rPr>
              <a:t>EKSTRAKCIJA PLODA VAKUUM EKSTRAKTOROM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ASTAV APARAT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IBOR ZA EKSTRAKCIJ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IBOR ZA STVARANJE VAKUU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342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33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Swiss Black YU"/>
              </a:rPr>
              <a:t>INDIKACIJE OD STRANE MAJKE</a:t>
            </a:r>
            <a:endParaRPr b="0" lang="en-US" sz="2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564840" y="1411920"/>
            <a:ext cx="436212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P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roduženo trajanje porođaja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258920" y="2059560"/>
            <a:ext cx="58467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S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ekundarno slabe kontrakcije (dystocio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684360" y="3011760"/>
            <a:ext cx="8281800" cy="106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M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noga oboljenja i stanja porodilje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Latn-CS" sz="2000" spc="-1" strike="noStrike">
                <a:solidFill>
                  <a:srgbClr val="f8a500"/>
                </a:solidFill>
                <a:latin typeface="Swiss Black YU"/>
              </a:rPr>
              <a:t>kardiovaskularne, cerebrovaskularne, neuromuskularne, respiratorne i urinarne bolesti, stanja opšte </a:t>
            </a:r>
            <a:r>
              <a:rPr b="0" lang="en-US" sz="2000" spc="-1" strike="noStrike">
                <a:solidFill>
                  <a:srgbClr val="f8a500"/>
                </a:solidFill>
                <a:latin typeface="Swiss Black YU"/>
              </a:rPr>
              <a:t>i</a:t>
            </a:r>
            <a:r>
              <a:rPr b="0" lang="sr-Latn-CS" sz="2000" spc="-1" strike="noStrike">
                <a:solidFill>
                  <a:srgbClr val="f8a500"/>
                </a:solidFill>
                <a:latin typeface="Swiss Black YU"/>
              </a:rPr>
              <a:t>scrpljenosti, teške hipovolemijske anemij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1075320" y="4507560"/>
            <a:ext cx="386100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4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I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ntrapartalna krvavljenj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755640" y="5228280"/>
            <a:ext cx="48243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5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V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išegodišnji infertilitet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826920" y="5949000"/>
            <a:ext cx="446580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6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E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klamptični statu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500"/>
                            </p:stCondLst>
                            <p:childTnLst>
                              <p:par>
                                <p:cTn id="371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7000"/>
                            </p:stCondLst>
                            <p:childTnLst>
                              <p:par>
                                <p:cTn id="375" nodeType="afterEffect" fill="hold" presetClass="entr" presetID="16" presetSubtype="37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9" nodeType="afterEffect" fill="hold" presetClass="entr" presetID="16" presetSubtype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3" nodeType="afterEffect" fill="hold" presetClass="entr" presetID="16" presetSubtype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342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33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Swiss Black YU"/>
              </a:rPr>
              <a:t>INDIKACIJE OD STRANE PLODA</a:t>
            </a:r>
            <a:endParaRPr b="0" lang="en-US" sz="2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646920" y="1411920"/>
            <a:ext cx="51152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P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reteća ili početna fetalna asfiksija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684360" y="2275560"/>
            <a:ext cx="84596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N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epravilne ili nepotpune rotacije fetalne glavice nad karličnim ulazom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755640" y="3211920"/>
            <a:ext cx="540072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P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lacentarna insuficijencija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566640" y="4075560"/>
            <a:ext cx="655380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4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K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ompromitovana cirkulacija u pupčanoj vrpci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755640" y="4941000"/>
            <a:ext cx="48243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5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A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brupcija placen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Rectangle 8"/>
          <p:cNvSpPr/>
          <p:nvPr/>
        </p:nvSpPr>
        <p:spPr>
          <a:xfrm>
            <a:off x="755640" y="5875920"/>
            <a:ext cx="446580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6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P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reterminski plo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4500"/>
                            </p:stCondLst>
                            <p:childTnLst>
                              <p:par>
                                <p:cTn id="403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70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9500"/>
                            </p:stCondLst>
                            <p:childTnLst>
                              <p:par>
                                <p:cTn id="412" nodeType="after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342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33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00"/>
                </a:solidFill>
                <a:latin typeface="Swiss Black YU"/>
              </a:rPr>
              <a:t>USLOVI ZA IZVOĐENJE INTERVENCIJE</a:t>
            </a:r>
            <a:endParaRPr b="0" lang="en-US" sz="2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1384200" y="1411920"/>
            <a:ext cx="56757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wiss Black YU"/>
              </a:rPr>
              <a:t> </a:t>
            </a: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Glavica mora da bude fiksirana u karlici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461520" y="2059560"/>
            <a:ext cx="643680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Materično ušće mora biti potpuno dilatiran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1162080" y="2707200"/>
            <a:ext cx="520992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Plodovi ovojci moraju biti prokinuti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324000" y="3665880"/>
            <a:ext cx="82818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buSzPct val="102909"/>
              <a:buBlip>
                <a:blip r:embed="rId4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Ne sme da postoji veća nesrazmera između veličine glavice ploda i koštanog dela porođajnog kanal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615240" y="4651920"/>
            <a:ext cx="35625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5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Plod mora da bude živ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468360" y="5443920"/>
            <a:ext cx="867564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buSzPct val="102909"/>
              <a:buBlip>
                <a:blip r:embed="rId6"/>
              </a:buBlip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Swiss Black YU"/>
              </a:rPr>
              <a:t>Neophodno je prisustvo akušerske ekipe sa bar jednim iskusnim akušerom, kao i prisustvo neonatologa i po mogućnosti anesteziolog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0"/>
                            </p:stCondLst>
                            <p:childTnLst>
                              <p:par>
                                <p:cTn id="437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7500"/>
                            </p:stCondLst>
                            <p:childTnLst>
                              <p:par>
                                <p:cTn id="442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6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4500"/>
                            </p:stCondLst>
                            <p:childTnLst>
                              <p:par>
                                <p:cTn id="451" nodeType="afterEffect" fill="hold" presetClass="entr" presetID="4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dbbd71"/>
                </a:solidFill>
                <a:latin typeface="Arial"/>
              </a:rPr>
              <a:t>IZVOĐENJE INTERVENCIJE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Uvođenje i nameštanje vakuum kalote na glavicu plo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varanje potrebnog vakuu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obna trak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Ekstrakcija plo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kidanje vakuum kalo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eanimacija ploda, ekstrakcija posteljice i revitija porođajnog kana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30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808000"/>
                </a:solidFill>
                <a:latin typeface="Arial"/>
              </a:rPr>
              <a:t>EMBRIOTOMIA (komadanje ploda)</a:t>
            </a:r>
            <a:br>
              <a:rPr sz="3200"/>
            </a:br>
            <a:r>
              <a:rPr b="0" lang="sr-Latn-CS" sz="3200" spc="-1" strike="noStrike">
                <a:solidFill>
                  <a:srgbClr val="dbbd71"/>
                </a:solidFill>
                <a:latin typeface="Arial"/>
              </a:rPr>
              <a:t>PERFORATIO CAPITIS s. CRANIOTOMIA</a:t>
            </a:r>
            <a:br>
              <a:rPr sz="3200"/>
            </a:br>
            <a:r>
              <a:rPr b="0" lang="sr-Latn-CS" sz="3200" spc="-1" strike="noStrike">
                <a:solidFill>
                  <a:srgbClr val="dbbd71"/>
                </a:solidFill>
                <a:latin typeface="Arial"/>
              </a:rPr>
              <a:t>DECAPITATIO</a:t>
            </a:r>
            <a:br>
              <a:rPr sz="3200"/>
            </a:br>
            <a:r>
              <a:rPr b="0" lang="sr-Latn-CS" sz="3200" spc="-1" strike="noStrike">
                <a:solidFill>
                  <a:srgbClr val="dbbd71"/>
                </a:solidFill>
                <a:latin typeface="Arial"/>
              </a:rPr>
              <a:t>EVISCERATIO PHOETI s. EXENTERATIO</a:t>
            </a:r>
            <a:br>
              <a:rPr sz="3200"/>
            </a:br>
            <a:r>
              <a:rPr b="0" lang="sr-Latn-CS" sz="3200" spc="-1" strike="noStrike">
                <a:solidFill>
                  <a:srgbClr val="dbbd71"/>
                </a:solidFill>
                <a:latin typeface="Arial"/>
              </a:rPr>
              <a:t>SPONDILOTOMIA</a:t>
            </a:r>
            <a:br>
              <a:rPr sz="3200"/>
            </a:br>
            <a:r>
              <a:rPr b="0" lang="sr-Latn-CS" sz="3200" spc="-1" strike="noStrike">
                <a:solidFill>
                  <a:srgbClr val="dbbd71"/>
                </a:solidFill>
                <a:latin typeface="Arial"/>
              </a:rPr>
              <a:t>CLEIDOTOMIA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3499920"/>
            <a:ext cx="8229600" cy="26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U principu izvodi se samo na mrtvom plodu, a na živom samo gde nema uslova za carski rez i to u sledećim slučajevim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Zapušteni poprečni položaj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Dvoglav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Zastoj u porođaju zbog širokih ramena ili anomalija trupa plo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dbbd71"/>
                </a:solidFill>
                <a:latin typeface="Arial"/>
              </a:rPr>
              <a:t>Uslovi za intervenciju: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Dovoljna dilatacija grlića mater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istupačan prednjačeći de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epostojanje vodenja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Da karlica nije apsolutno suž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Dovoljna prostranost porođajnog kanala za izvođenje intervenci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dbbd71"/>
                </a:solidFill>
                <a:latin typeface="Arial"/>
              </a:rPr>
              <a:t>INSTRUMENTI ZA IZVOĐENJE INTERVENCIJ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Braunova kuka za dekapitacij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iebold-ove maka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aegelov perforatorij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Kranioklast po Braun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Fritsch-ov metalni kate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aginalni ekarteri, peani, pincete it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dbbd71"/>
                </a:solidFill>
                <a:latin typeface="Arial"/>
              </a:rPr>
              <a:t>MALE GINEKOLOŠKE OPERACIJ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6756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KSPLORATIVNA EKSCIZIJA (PROBNI ISEČAK - BIOPSIJ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ILATACIJA CERVIK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ISTEROMETRI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KSPLORATIVNA KIRETAŽA                                           *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ISTEROSKOPI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ELIOSKOPI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SUFLACIJA TUB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ISTEROSALPINGOGRAFIJA (HSG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ISTEROGRAFI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VAGINALNA PUNKCIJA (PUNCTIO DOUGLASSI)         *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CIZIJA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OLIPEKTOMIJA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MPUTACIJA TUMORA NA PETELJCI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KOLPOTOMIJA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dbbd71"/>
                </a:solidFill>
                <a:latin typeface="Arial"/>
              </a:rPr>
              <a:t>CARSKI REZ (SECTIO CAESAREA)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ectio Caesarea vagin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ectio Caesarea abdomin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ectio Caesarea abdominalis corporalis class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ectio Caesarea abdominalis isthm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ectio Caesarea isthmica transperitone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ectio Caesarea isthmica extraperitone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dbbd71"/>
                </a:solidFill>
                <a:latin typeface="Arial"/>
              </a:rPr>
              <a:t>INDIKACIJ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ffff"/>
                </a:solidFill>
                <a:latin typeface="Tahoma"/>
              </a:rPr>
              <a:t>Od strane majke i od stane plo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ffff"/>
                </a:solidFill>
                <a:latin typeface="Tahoma"/>
              </a:rPr>
              <a:t>Apsolutne, relativne, prošire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Apsolutno sužena kar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Disproporcija između deteta i karlice maj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metnje u porođajnom kanalu, anomali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Teška opšta stanja maj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lacenta praev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oprečni i kosi položaj plo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Karlični položaj plo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Anomalije rotacije i defleksioni stav plo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evremeno odlubljivanje postelj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Carski rez u predhodnoj trudnoć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eliki miomi materice i miomektom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eteća ruptura mater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EPH gestoze, eklamps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eke distoci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enešena trudnoća koja ne reaguje na indukcij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Žene sa habitualnim pobačaji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išerotke koje su izgubile dec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olaps pupčan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Dijabetes, Rh inkompatibil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Druge indikaci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33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ecff"/>
                </a:solidFill>
                <a:latin typeface="Arial Black"/>
              </a:rPr>
              <a:t>KARAKTERISTIKE CARSKOG  REZA DANAS: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98400" y="2322000"/>
            <a:ext cx="6097320" cy="25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NAJČEŠĆE INDIKACIJ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PONOVNI CARSKI RE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KARLIČNA PREZENTA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DISTO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FETALNI DIST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250920" y="1557360"/>
            <a:ext cx="828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OPŠTI PORAST BROJA S. C. POSLEDNJIH GODI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-92160" y="5753160"/>
            <a:ext cx="804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324000" y="5122800"/>
            <a:ext cx="8820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POVEĆANA STOPA  S. C. NIJE SMANJILA MORBIDITET I MORTALIT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500"/>
                            </p:stCondLst>
                            <p:childTnLst>
                              <p:par>
                                <p:cTn id="482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"/>
          <p:cNvGraphicFramePr/>
          <p:nvPr/>
        </p:nvGraphicFramePr>
        <p:xfrm>
          <a:off x="324000" y="1125360"/>
          <a:ext cx="8508960" cy="5294520"/>
        </p:xfrm>
        <a:graphic>
          <a:graphicData uri="http://schemas.openxmlformats.org/drawingml/2006/table">
            <a:tbl>
              <a:tblPr/>
              <a:tblGrid>
                <a:gridCol w="3646440"/>
                <a:gridCol w="4862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ffff"/>
                          </a:solidFill>
                          <a:latin typeface="Arial Black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US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ITALIJ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4.5-26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KANA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FRANCUSK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5-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ŠPANIJ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VELIKA BRITANIJ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BRAZ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MEKSIK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ŠVEDSK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NORVEŠK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Č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EHOSLOVA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Č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K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7-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IZRA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ZEMLJE AFRIK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3-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Text Box 49"/>
          <p:cNvSpPr/>
          <p:nvPr/>
        </p:nvSpPr>
        <p:spPr>
          <a:xfrm>
            <a:off x="755640" y="26028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ENAT CARSKIH REZOVA U DRUGIM ZEMLJA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9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BEOGRAD (IGA)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20%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BEOGRAD (N. FRONT)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20%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BEOGRAD (ZVEZDARA)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15%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NOVI SAD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20% – 25%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NIŠ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15%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KRALJEVO 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16%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ZAJEČAR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28%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SMEDEREVO 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13%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S. MITROVICA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18%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ČAČAK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40%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PRIJEPOLJE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40%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BANJA LUKA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13,5 %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PODGORICA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 Black"/>
              </a:rPr>
              <a:t>13,5 %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0066"/>
                </a:solidFill>
                <a:latin typeface="Arial Black"/>
              </a:rPr>
              <a:t>KRAGUJEVAC</a:t>
            </a:r>
            <a:r>
              <a:rPr b="0" lang="sr-Latn-CS" sz="2200" spc="-1" strike="noStrike">
                <a:solidFill>
                  <a:srgbClr val="ff0066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0066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0066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0066"/>
                </a:solidFill>
                <a:latin typeface="Arial Black"/>
              </a:rPr>
              <a:t>	</a:t>
            </a:r>
            <a:r>
              <a:rPr b="0" lang="sr-Latn-CS" sz="2200" spc="-1" strike="noStrike">
                <a:solidFill>
                  <a:srgbClr val="ff0066"/>
                </a:solidFill>
                <a:latin typeface="Arial Black"/>
              </a:rPr>
              <a:t>8 – 11 %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755640" y="260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NAT CARSKIH REZOVA U DRUGIM GRADOVI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1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5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1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1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45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5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10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650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10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75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1000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85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1000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95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1000"/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1500"/>
                            </p:stCondLst>
                            <p:childTnLst>
                              <p:par>
                                <p:cTn id="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1000"/>
                                        <p:tgtEl>
                                          <p:spTgt spid="3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2500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1000"/>
                                        <p:tgtEl>
                                          <p:spTgt spid="3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1000"/>
                                        <p:tgtEl>
                                          <p:spTgt spid="3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dbbd71"/>
                </a:solidFill>
                <a:latin typeface="Arial"/>
              </a:rPr>
              <a:t>PREOPERATIVNE DIJAGNOSTIČKE PROCEDURE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OSTAVLJANJE PREDHODNE INDIKACIJE ZA OPERACIJ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EOPERATIVNO ISPITIVAN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UTINSKE ANALIZE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Krvna slika i hematokr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E, faktori koagulaci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Krvna grupa i Rh fak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Urea u krvi i kreatin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Kompletan pregled uri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Elektroli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Glikem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aginalni i cervikalni bris. PAPA t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5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endgen srca i pluć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EKG i internistički pregled srca i pluć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DODATNA POSEBNA ISPITIVANJA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Hepatogr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Kolposkop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V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Laparoscop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CH analiz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Curettage explorati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Biopsija uzor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UZ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395280" y="-81900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dbbd71"/>
                </a:solidFill>
                <a:latin typeface="Arial"/>
              </a:rPr>
              <a:t>PREOPERATIVNE DIJAGNOSTIČKE PROCEDURE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118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KONAČNA INDIKACIJA ZA OPERACIJ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EPOSREDNA PRIPREMA  PRED OPERACIJ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OPERATIVNA EKIP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dbbd71"/>
                </a:solidFill>
                <a:latin typeface="Arial"/>
              </a:rPr>
              <a:t>POSLEOPERATIVNI OPORAVAK I NEGA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BUĐENJE IZ ANESTEZI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ZAGREVANJE POSTELJE I POLOŽAJ U POSTELJ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KONTROLA TA I PUL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ERENJE TEMPERA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KONTROLA JEZIKA I U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UZIMANJE TEČNOSTI PARENTERALNO I PER 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ERENJE DIUREZE  (KATETE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ERISTALTIKA (PRAŽNJENJE CREV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SHRAN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21:31:16Z</dcterms:created>
  <dc:creator>Goran</dc:creator>
  <dc:description/>
  <dc:language>en-US</dc:language>
  <cp:lastModifiedBy>Janko Djuric</cp:lastModifiedBy>
  <dcterms:modified xsi:type="dcterms:W3CDTF">2016-02-26T08:03:11Z</dcterms:modified>
  <cp:revision>18</cp:revision>
  <dc:subject/>
  <dc:title>OPERATIVNI ZAHVATI U GINEKOLOGIJI I AKUŠERSTVU</dc:title>
</cp:coreProperties>
</file>